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669-1250-4CB7-A586-926932D9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CEE-5B1B-497A-9925-C227CC9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F80-328D-45C6-9EE3-4CD7CE07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B15-9DD6-4114-B97E-2495DB81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F2E4-0B05-4896-AACC-E4433B6D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D86-8B1E-49A2-9DAD-F9D81FB2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3896-B346-4FC8-AA3E-57E077D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088-2EE3-4CDB-9E50-E9AA7CA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756-A69D-4CFD-AE44-E876E2B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1C2-01C4-4DB6-9A83-3685B62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7C9-77B4-4CB8-9222-26B6D9B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B6B-FAE4-4645-AEB0-8363579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680E-D8CA-48DB-BED9-0CC2756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A2ED-DCC0-426C-A47F-6E9DA3B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B21-195E-42EE-88DE-654FBD7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0234-F718-4D5F-8119-83FB08C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4B15-4134-4263-990B-E6E945DE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D8D-81B6-427B-8185-EE35AFC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1CA-839D-4EC4-BF95-70B6CB5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83F-2E01-4E63-8E4F-11B910E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418-74C1-4497-A934-F4A7EF5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35E-EDE6-41AA-9472-9AEF7D4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717-2469-4F82-95A6-DDA81A3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DAA-8680-4124-803E-FAC239F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537B-103B-45D7-9F31-FD663B7F1E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C80-0443-420C-99C3-BE7EF33D88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m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7010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loman dies and 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harlemagne) seizes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imposing fig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 armies against enemies surrounding the kingd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rough conquests, Charlemagne spreads 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united 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olingian Empire included 2/3 of Italy, all of France, small part of Spain, and all of German Saxo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me most powerful king in western Eur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 800 Charlemagne crushes unruly mob that had attacked Pope Le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gratitude, 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toric because pope claimed political right to confer the title “______________” on a European 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event signaled the joining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 th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charlemagne"/>
          <p:cNvPicPr/>
          <p:nvPr/>
        </p:nvPicPr>
        <p:blipFill>
          <a:blip r:embed="rId1"/>
          <a:stretch/>
        </p:blipFill>
        <p:spPr>
          <a:xfrm>
            <a:off x="7086600" y="1600200"/>
            <a:ext cx="189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Charlemagne’s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 out royal agents, making sure counts governed their counties jus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rly visited every part of his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pt close watch on his Carolingian estates; source of wealth and pow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c145"/>
                </a:solidFill>
                <a:latin typeface="Tahoma"/>
              </a:rPr>
              <a:t>Culture Re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his greatest accomplishments was the 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rounded himself with English, German, Italian, and Spanish schol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ed a 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dered monasteries to open schools to train monks and pri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ed their libraries; made handwritten copies of Latin book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a9b7"/>
                </a:solidFill>
                <a:latin typeface="Tahoma"/>
              </a:rPr>
              <a:t>Charlemagne’s Heirs are Weak Ru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before he dies, crowns only son, Louis the Pious as empe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uis is a devoutly religious man, but ineffective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uis leaves three 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les the Ba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uis the Ger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fight for control of the emp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vil war ends in 8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vides Charlemagne’s empire into 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reaty, Carolingian kings lose power and central authority breaks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a new system of governing and landholding:    </a:t>
            </a:r>
            <a:r>
              <a:rPr b="1" i="1" lang="en-US" sz="3200" spc="-1" strike="noStrike">
                <a:solidFill>
                  <a:srgbClr val="9966ff"/>
                </a:solidFill>
                <a:latin typeface="Tahoma"/>
              </a:rPr>
              <a:t>_________________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24:29Z</dcterms:created>
  <dc:creator>admin</dc:creator>
  <dc:description/>
  <dc:language>en-US</dc:language>
  <cp:lastModifiedBy>admin</cp:lastModifiedBy>
  <dcterms:modified xsi:type="dcterms:W3CDTF">2011-03-18T12:54:56Z</dcterms:modified>
  <cp:revision>8</cp:revision>
  <dc:subject/>
  <dc:title>The Rise of the Empire of the Franks</dc:title>
</cp:coreProperties>
</file>